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E83B-C960-41C1-8173-BD9B159C5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4D02-B4AF-41DE-81D6-0C1610B5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CFE671-4586-4DEF-8A6A-2E6B29C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337A0D-979B-4A3A-9CE9-6F84BD76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0DB1A4-8CE8-4734-AE45-B22DEF35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4636B-5922-4CF2-B3BE-02EDE0C5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AA06B8-9EB5-45F8-AEFA-8144CBE3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92231-D37F-4254-9CC3-526DA3BF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791FCC-B104-473C-AB45-C88ECB7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E4BB0B-DAE3-4C86-B9B8-7B94574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959309-6CAD-46F8-9635-627EA42E4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48C6-CA2E-4710-8511-428C3934A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C612-55AA-4751-A6B7-9B90C372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056E-4604-4795-9279-B8B6F99C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3A07-89D8-4339-B4E7-E706FC1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0C7CA-6332-4531-AA48-C92E7C6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DD826-CA95-437F-813E-4D2CD881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9FBB-9F9B-49EB-A020-B22F96C9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1D6C-F4B2-4250-9354-2494C856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FA42-98E2-4933-A6ED-0AC03FB8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2B84-3CFC-477B-B6CC-408A9B48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BE3A7-F4EC-4F67-9964-30BEEDAB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3CE1-0DB7-4337-9437-0560718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CA11-8A11-4700-AA03-ADA1BDCAD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720B-4D78-40C6-AD6B-B6D68A294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8C884-C995-4A04-986F-776CC03F87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DC222-B18D-4083-A90B-AE0D79A7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0AE76-AD0E-4733-89ED-EA8A7236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7616A-DE7E-47EB-B31A-F586C92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9F374-2A25-4A2F-BA01-36EDD41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2FD95-9355-44B8-A17B-7D45DDBF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CD03D-7EDE-4EDD-BA92-F659B6AD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2B543-82A5-4C99-ABA3-1D5BFCE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44A3C-5747-4B84-9A6A-E4FC0AF2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F2C22-591B-4428-96BF-012EC8B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041D9B-E54E-4AA1-8BF5-2C08382A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55B92-8F84-4064-85D8-D1B7840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EE18A-B5DD-4632-AC4B-DFC9FC0E4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CB21F-3F15-4582-B858-1D71B7D38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FCAE4-70A1-4B1C-83A9-47363539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B04F9-C78A-402A-8F4F-AFD739F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3A913-456D-4ED4-A8DD-70B78DC0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DDAFD-67B4-4B16-B95F-8EF049C5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0DC72-2931-4379-8494-A8ADDF0D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55D66-4292-4D34-B11F-127A9FE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10E27-7A43-456F-8161-3392541C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65CF2-D0D1-4019-A437-8C7C7A6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8B884-3B6F-48E4-B17D-09FACB5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4BE12-8584-4F89-B292-ED3B665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B318B-4B01-48D6-926B-1CC27DC9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8FDF1-C5E7-4EA0-A2DB-E77318751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2EC6E-773A-4319-BF22-748C8C2DE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B28FD-354A-49C4-B4BC-3A7A70D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5E13E-3866-4FC5-9F4E-39F06C54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3B82-2925-44F8-89F4-D6387C5E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04A0-C58F-417C-A8A3-8B226E44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E06A-ABE8-477B-9725-85361F21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5992A-BA4B-4F9E-A36C-989B1D65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0367F-1FD9-4977-A673-FF283D3F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9490-B8DF-4660-A61F-B923852A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E747D-FE59-4515-9484-2357551F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7A7F-7E4E-476F-B6A8-9D0D0C8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94F63-D2A6-46A2-8164-866D886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1EBBD-B420-455A-A546-E8F6B678B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E3655-5609-468F-AD2F-B950A80E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C0E6F-7F6C-4749-BB4B-0D4A4DC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2659D-BDC2-4E0D-AC38-E75796A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7F79B-6B01-4A99-95C8-80AC615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DA9D5-FFDB-42BF-87C8-BE5B8A4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B15CD-0D23-4B00-BD1D-E432F3D8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A9B3A-1E35-4407-A9BB-A5815B52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232CE-A592-4100-99E5-0F18374B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FF04F-F056-492B-95E1-9E7EB0F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0CDC-378D-4320-888D-E362CA0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C3206-1C52-43E6-968D-8F072D1C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960F-D08C-4155-BF81-77F10D3D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3403B-0E69-452E-A5F1-2D4FFE15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CD572-ADF9-49A7-BA69-E21CB5A2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32EDD-9F2E-4963-B2F0-2959A09B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5A63-B565-4670-B556-5CA53486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8A9A9-A5ED-4AAC-88CF-48C95A77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D1BEC-FA2B-489F-8D19-9E24537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00126-D6D0-4089-843D-1F38E33A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6108-2504-4957-B5E5-FFE00B8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3777C-0284-4C4E-A7DE-6E9975C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63438-EEF7-45BF-897B-8095C547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99241-E7D1-4B70-8E84-1A8EBB0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7AE09-4138-4977-8C48-994701DE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A6BE2-20CD-4B35-8C3B-EE67AAE8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330CF-4757-424F-BA11-F1CB3B1E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AD94F-21E9-46F2-9A25-DAE5CD2F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3B381-4C99-4269-8A03-20147A85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F8E97-42B8-4B8B-B80B-7935B0C0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4DBCC-6330-4A9E-BD15-D7B2D74E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17BAD-264C-4F22-8964-77212EA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A86A4-6E7D-4167-BAB9-A5E9E40A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3201A-FD1A-4635-B8D0-2F15CEB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4699F-73F3-4879-BB91-E5C7FDC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28D3F-474E-4B74-8334-CCF28CFA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5F09D-D950-47AF-A06B-28FEDC6A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978B1-B5A9-4561-8352-06C04F0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C3F5E-E7AB-4EF0-A511-78030C2E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D8AF5-873E-4571-B828-D76E1883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40452-B0BE-4165-9486-D35966F6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B3D5B-E172-40F4-9EE1-0358CD35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83409-1221-4D7B-ADC5-C2919FDA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EF9A6-1466-45E7-B24B-268F1252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CF501-71EF-498D-990D-17CABC59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4527B-EA5F-4E7D-9A1C-C8E279D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4EDDA-FBCB-4A4A-81D9-C11BC6FF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D2424-B77F-43E4-AE47-D236E1DB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B840-F21D-414B-AF25-BEF10794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45B25-C9F4-4352-93F0-38031917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B7C2C-9CD8-489D-8BF4-33AD421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F7476-98DA-4E12-9949-996548D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65569-E7CF-44D9-B3FC-B0388421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4B59C-260B-46EA-B2A4-D4C3650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977B3-D919-42BC-9280-B238E01C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A891E-06F7-4B46-B9FD-8B1712DB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0B65C-FECF-421C-A60C-A3B23A4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6067D-38A7-46CA-AAA5-4B240F2F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88636-F2C6-4200-AAEB-7A16124D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9B4D5-EF1A-4BAC-A2E1-374C31C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E5639-B4C7-4C30-870E-D0AD83EB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C5E97-8E18-41BC-A9B8-617B6E9E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7BC4A-C367-439E-A5B6-9107410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45A85-8CBF-42F9-99AA-F98922C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6505A-9141-4E46-B446-6304A65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F5DBD-B06D-4D32-8389-49203E92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0D601-A8C3-452D-8A6C-7151EA79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39970-63EE-4684-9121-0B6ED511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853A6-7BDB-4F60-AE10-00CA02CD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19C4B-D166-4259-A169-749FA83E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D144C-428E-4167-AA17-4FE6FF19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15D0-139F-492E-84D2-230B392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F4E4D-919A-4B9B-80A0-8986511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C72E9-EECA-4DB0-AC0A-406F822B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0D798-27C3-4213-939F-569F15E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ABFD1-A301-4429-9764-6D2CFE7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7DC25-1155-4F9D-A58C-5303F16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76FC9-8EE6-4E4E-BD4F-E290B0F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C95CA-CCB8-416B-9E40-9FD07C46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BFC8B-1C5F-4A80-9EE9-46C10A9D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85EDE-13F0-491B-ABE1-5E37D06A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90D50-B2EC-4FC9-98C9-670BE840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E79B1-F668-4B55-8C5D-6636876A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481CD-A213-4A2D-B8CC-8171AFD0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D5C38-BCD1-4885-972F-777983DE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6D950-E102-46FB-B91D-34223FC5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4D4A0-EFF7-4CA0-BBFE-D0EC6328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BEF05-1BC8-411E-9A58-2C105E4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0F1A7-9996-4613-A35B-8DA3F12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7F3B5-BD7A-48D6-884A-2ED8C14A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11580-58C6-49D8-8EAC-473E9DC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66207-25EC-4870-96A9-FDA00FD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80326-5804-49C6-B657-A3E112B5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7BE6F-3F70-4A54-BFE0-EDC3E30C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57268-DCC0-4771-9966-F34BF435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8966E-8997-4D72-868E-0C32D7AA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1AEAA-9F57-4EAE-930A-B08B7CE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1FE62-1006-4EDD-A46A-3133F5E3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9A6F2-46BC-4F69-B110-24923AA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2B6EF-91EF-46A6-8D7F-1777B01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82620-D6E2-4EE2-ACE7-0CBF16D0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F28B4-5DFB-4249-9C15-C87AECD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D6357-31D6-4B7B-8B2F-BB662EF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D5BA0-8262-412F-99B5-49E7F1B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45F4E-24D4-439E-BA2C-8D9E371CD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0820F-7E51-48DC-A7DD-AA2154D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947DE-3E48-4EB0-8BAF-C7E4ADC0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9816A-4718-4413-9D81-59E6B7D3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435FB-7C2D-4EBA-B4A2-4684777C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94FFB-4208-4696-8ABF-D46A654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15B89-BE5F-4330-8F64-FA2717D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B1621-289B-436E-BFA8-F8A176EA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D3A73-6346-4207-B843-25F44E2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B83AE-B708-4E5B-9C7B-D2E6A773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EBD21-30D2-4FF0-A22B-592509C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6415E-5150-4C20-A5BF-53016AEC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7B902-FE49-496D-B7C6-F672242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B1C73-1D6C-431D-97DA-4345CF0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5AAEC-43D9-476C-80AC-DEB1AAB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2C527-86E3-4389-BB5C-0FBEA4A9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3CCFE-15BD-4484-B283-3C760F12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FA98F-C755-4301-AC20-A9613982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D22FE-4DE1-4348-A87E-4C92D2A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01302-8A2B-4790-936D-B2F2C668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F528C-94D7-453A-AFAB-F3FD2403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33B6B-5EEF-4957-B230-63A429F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BA27D-3842-4591-B7B9-3567D43F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27A7C-6307-45E1-AF12-8DA71B9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17DB9-515C-4B24-9714-A173325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EEBF2-DFFC-4858-B2EA-46F82E9D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CECFAC-1C57-4196-9EDA-5016621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AEA85-5A9A-4CEA-8B77-10C396A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B9ABD-D02A-4795-8065-CD9C2D67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D8A10-45A5-47DF-A599-2CFF9221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22E57-DA0F-4F75-8435-4F66D237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3C0E3-933A-4120-80A1-7DDD1393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4E4AC-F79C-4934-AEC4-A8E8527F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9E447-2127-453C-87D8-269A99FF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71FBF-A924-4999-8DE8-985BEBB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B8CE7-DD8E-486B-8E44-CE9B573A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C617E-D9A6-42A9-86B3-BDDB9EFC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8FAD2-8220-4F14-9CED-2E2DA26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ADB28-8B0A-4CD2-AF34-2959BFB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7BD14-8552-4843-85BA-EAA814B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90153-7E1D-4A9D-949B-7F95242B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24F49-61EB-4F32-87EB-A153B178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F8319-AF14-4E63-9EA7-90FD0AED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5F5A8-2ED7-4ECE-A948-5926CE34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FFFC-EF11-453C-8282-744D3BD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76144-96F5-488B-B7FA-C62384F4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D2443-BBC5-4940-86A1-B265BBF1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CCF8D-2D79-40FA-B4E1-63403CE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1FE7F-7440-4A5E-83D6-8E653A59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FAA020-CFDB-473B-BDC4-CD74126D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4514E-B34C-45A5-AB60-958BD3E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2B9D5-97FB-4FD1-9C39-01261D4C4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133E-546D-4076-9C65-42F6271FF1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702D-43F5-4753-B9F3-CE8FDE0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B1A3-D30C-4A79-802C-0BF5CD7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8E7E-1F2A-4493-BA74-AC92C60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A6DD-EBDE-459D-B391-2BB82D06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45A8-21A0-4002-A863-CF78423F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B133-F8C5-4E8F-B1E7-6463F0C9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3868-BD03-42DD-BB11-99F3D3D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B734-2EEE-4212-B3FB-6404DA5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CEE5-B3DC-435B-9CA4-CBB1AC3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A172-F630-4F2D-980A-CD19A077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6927-D29B-4840-81F6-8BA5BE1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580F-8AB0-4C5F-8266-4DA240F2B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7DCD3-1321-4025-926C-1FEC63BED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20F9-D7C8-4D43-9797-1EFE7C97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3084C-FF4E-4483-B5CB-29A7AB4C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5A24E-360A-4D02-895D-0FFB20D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1DF42-FECD-4247-944F-9B319B5F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B28B6-122B-4246-936E-494B715A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E03E0-134B-4CE7-8649-BB69F403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8F7A2-8910-4D83-AF70-862D5A88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64DED-66B3-4DE7-90A2-942DF790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5FEDA-A140-4B3F-853F-E2A5E12F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395C9-D19C-4BE4-9644-3172FF2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67503-D079-4B19-8B0B-B09DB2D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05BD-7261-499B-8D78-2E654A3B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2BD21-4161-49E2-9B42-7DF4B8BF91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8D59E-F2D6-42D3-B165-9D7943A7C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FC2B3-B107-4931-B1D4-1C0F76B1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1BAE9-16C6-4134-9DF5-4B70A51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381FA-48B5-4AF9-ADA3-5F0FF05E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E6652-F574-4BCC-8619-EF9D12EA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869CB-26D1-46AC-8105-DC25695E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9C356-8A37-433A-9931-9E5A709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91905-622F-4C95-953E-940EDC3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DD63F0-6779-48B0-9873-1303638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3326-2935-4760-B895-10AE5D11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517E76-EE14-4ED0-8BA8-566BF2C1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74D8F-8463-417D-AEC8-3B7F875F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12A265-0E02-4AB8-AAED-40591642F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5064-8F93-4358-A765-1DF15FC53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A7A0-8A6C-4DB8-BF83-7963B9C0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23744-0397-4BFF-BF5C-620E03A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C4FDE-2DA5-4BCF-9F2B-58AF0D8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C99A-D857-45A8-90B8-FA875C74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571FF-B603-4E66-82A4-EF60C38C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23D4F-DF41-4129-80F5-3D6074F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EAEF-BD25-491F-ADB5-D5DA05D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C4AC-110A-4DE9-ADAF-BA3005DF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D970-C16D-48BD-B7A5-C772C74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FA4E-111C-4236-940B-E17D5F97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8B58-4676-4C30-983B-FA98EDD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B42A-532D-4918-B98E-C3F2FA2BF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AA0F5-85D9-416B-9040-5972A6A02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A7E7D-4703-498C-A89A-2384BCE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F4062-6938-4FA8-A434-C89324A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1D3CD-A2D2-4C6E-A920-ED9C5952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24369-5E2E-465E-958C-16163B48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A6F0-3472-4BF6-B0C6-B164E038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21BC2-A305-4696-96D4-495FDC7B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3DF18-38AE-4AD6-9240-6E34166D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A34A5-15CE-4FAD-A014-DE76F51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8D227-4141-404B-838C-86BD0F5C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74483-5EC8-469F-B41F-FA87EE33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77DE0-9005-4A03-9401-08C1823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67AE1-D50B-4AB7-AA64-D387F7289B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3BE2A-7FC5-486B-8D78-1990B8710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F2DDA6-42A6-4449-BB43-0D0A12AC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7FB3C8-EFD9-4327-9F25-DCD1EBC3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58DD-37FE-4082-8A88-97FC1221F3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767-0ABB-4CF5-AEB6-B15ACC4929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75DA-0522-460C-9DD1-F26A443792A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01F-736D-4EA9-9EF4-30ACD63D70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480A-20B4-48B6-859B-55033E12B9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C44-18B2-4DBA-B526-5D8D0B8FD43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641-76D9-45A9-911D-736CAE3131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372F-268A-4430-BF6A-F2FB37A3C5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B1C-F9CC-47CE-8CC1-5374AC1038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D751-075E-4318-A5B1-39A51CB30C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1549-BD8A-4025-8C9F-664AD0628A1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6CB-0FDD-4A08-AD94-C06F013B8B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D7E-93E0-45C4-ACEE-2EB6098449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9C52-DD8A-4EFD-9D3A-C3A72D83E4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A8D-10A7-4354-ACC4-4B9287ED6E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1472-6214-4BC9-A163-0785A5CEC1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B26C-B17F-4F5C-9718-7EC69A0BAC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DC6-A28D-40B3-B8D7-22972ACBDF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99F2-39A2-4FD0-B01A-4FECAB2360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178-1631-4EEA-B614-1D629DBDD5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ED84-4C4C-4041-834B-B836AC642A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C325-2865-48B6-ABBC-45433ED4DA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709B-A8B8-4C32-A10A-51C7CCA281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921-2F76-440C-A6BF-BE6EFE345E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49552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14360" y="2727360"/>
            <a:ext cx="84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35400"/>
            <a:ext cx="4832280" cy="360"/>
            <a:chOff x="2284560" y="2435400"/>
            <a:chExt cx="483228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35400"/>
              <a:ext cx="48322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35400"/>
              <a:ext cx="483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589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589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49320" y="1766880"/>
            <a:ext cx="68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进位加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3095" descr="狗"/>
          <p:cNvPicPr/>
          <p:nvPr/>
        </p:nvPicPr>
        <p:blipFill>
          <a:blip r:embed="rId1"/>
          <a:stretch/>
        </p:blipFill>
        <p:spPr>
          <a:xfrm>
            <a:off x="801720" y="1494000"/>
            <a:ext cx="676080" cy="8031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096" descr="虎"/>
          <p:cNvPicPr/>
          <p:nvPr/>
        </p:nvPicPr>
        <p:blipFill>
          <a:blip r:embed="rId2"/>
          <a:stretch/>
        </p:blipFill>
        <p:spPr>
          <a:xfrm>
            <a:off x="838080" y="2496960"/>
            <a:ext cx="489240" cy="76680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3097" descr="猴2"/>
          <p:cNvPicPr/>
          <p:nvPr/>
        </p:nvPicPr>
        <p:blipFill>
          <a:blip r:embed="rId3"/>
          <a:stretch/>
        </p:blipFill>
        <p:spPr>
          <a:xfrm>
            <a:off x="765000" y="3471840"/>
            <a:ext cx="638280" cy="763560"/>
          </a:xfrm>
          <a:prstGeom prst="rect">
            <a:avLst/>
          </a:prstGeom>
          <a:ln w="0">
            <a:noFill/>
          </a:ln>
        </p:spPr>
      </p:pic>
      <p:sp>
        <p:nvSpPr>
          <p:cNvPr id="1000" name="文本框 99"/>
          <p:cNvSpPr/>
          <p:nvPr/>
        </p:nvSpPr>
        <p:spPr>
          <a:xfrm>
            <a:off x="289080" y="80028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力我第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组合 9"/>
          <p:cNvGrpSpPr/>
          <p:nvPr/>
        </p:nvGrpSpPr>
        <p:grpSpPr>
          <a:xfrm>
            <a:off x="1927080" y="1752480"/>
            <a:ext cx="1176120" cy="432000"/>
            <a:chOff x="1927080" y="1752480"/>
            <a:chExt cx="1176120" cy="432000"/>
          </a:xfrm>
        </p:grpSpPr>
        <p:cxnSp>
          <p:nvCxnSpPr>
            <p:cNvPr id="1002" name="直接箭头连接符 7"/>
            <p:cNvCxnSpPr/>
            <p:nvPr/>
          </p:nvCxnSpPr>
          <p:spPr>
            <a:xfrm>
              <a:off x="1927080" y="198828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3" name="矩形 8"/>
            <p:cNvSpPr/>
            <p:nvPr/>
          </p:nvSpPr>
          <p:spPr>
            <a:xfrm>
              <a:off x="2671560" y="1752480"/>
              <a:ext cx="431640" cy="43200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10"/>
          <p:cNvGrpSpPr/>
          <p:nvPr/>
        </p:nvGrpSpPr>
        <p:grpSpPr>
          <a:xfrm>
            <a:off x="1927080" y="2727360"/>
            <a:ext cx="1176120" cy="431640"/>
            <a:chOff x="1927080" y="2727360"/>
            <a:chExt cx="1176120" cy="431640"/>
          </a:xfrm>
        </p:grpSpPr>
        <p:cxnSp>
          <p:nvCxnSpPr>
            <p:cNvPr id="1005" name="直接箭头连接符 12"/>
            <p:cNvCxnSpPr/>
            <p:nvPr/>
          </p:nvCxnSpPr>
          <p:spPr>
            <a:xfrm>
              <a:off x="1927080" y="296280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6" name="矩形 14"/>
            <p:cNvSpPr/>
            <p:nvPr/>
          </p:nvSpPr>
          <p:spPr>
            <a:xfrm>
              <a:off x="2671560" y="272736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21"/>
          <p:cNvGrpSpPr/>
          <p:nvPr/>
        </p:nvGrpSpPr>
        <p:grpSpPr>
          <a:xfrm>
            <a:off x="1927080" y="3630600"/>
            <a:ext cx="1176120" cy="431640"/>
            <a:chOff x="1927080" y="3630600"/>
            <a:chExt cx="1176120" cy="431640"/>
          </a:xfrm>
        </p:grpSpPr>
        <p:cxnSp>
          <p:nvCxnSpPr>
            <p:cNvPr id="1008" name="直接箭头连接符 23"/>
            <p:cNvCxnSpPr/>
            <p:nvPr/>
          </p:nvCxnSpPr>
          <p:spPr>
            <a:xfrm>
              <a:off x="1927080" y="386604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9" name="矩形 24"/>
            <p:cNvSpPr/>
            <p:nvPr/>
          </p:nvSpPr>
          <p:spPr>
            <a:xfrm>
              <a:off x="2671560" y="363060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39"/>
          <p:cNvGrpSpPr/>
          <p:nvPr/>
        </p:nvGrpSpPr>
        <p:grpSpPr>
          <a:xfrm>
            <a:off x="3209400" y="1752480"/>
            <a:ext cx="1178280" cy="432000"/>
            <a:chOff x="3209400" y="1752480"/>
            <a:chExt cx="1178280" cy="432000"/>
          </a:xfrm>
        </p:grpSpPr>
        <p:cxnSp>
          <p:nvCxnSpPr>
            <p:cNvPr id="1011" name="直接箭头连接符 40"/>
            <p:cNvCxnSpPr/>
            <p:nvPr/>
          </p:nvCxnSpPr>
          <p:spPr>
            <a:xfrm>
              <a:off x="3209400" y="198828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2" name="矩形 41"/>
            <p:cNvSpPr/>
            <p:nvPr/>
          </p:nvSpPr>
          <p:spPr>
            <a:xfrm>
              <a:off x="3955320" y="1752480"/>
              <a:ext cx="432360" cy="43200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2"/>
          <p:cNvGrpSpPr/>
          <p:nvPr/>
        </p:nvGrpSpPr>
        <p:grpSpPr>
          <a:xfrm>
            <a:off x="3209400" y="2727360"/>
            <a:ext cx="1178280" cy="431640"/>
            <a:chOff x="3209400" y="2727360"/>
            <a:chExt cx="1178280" cy="431640"/>
          </a:xfrm>
        </p:grpSpPr>
        <p:cxnSp>
          <p:nvCxnSpPr>
            <p:cNvPr id="1014" name="直接箭头连接符 43"/>
            <p:cNvCxnSpPr/>
            <p:nvPr/>
          </p:nvCxnSpPr>
          <p:spPr>
            <a:xfrm>
              <a:off x="3209400" y="296280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5" name="矩形 44"/>
            <p:cNvSpPr/>
            <p:nvPr/>
          </p:nvSpPr>
          <p:spPr>
            <a:xfrm>
              <a:off x="3955320" y="2727360"/>
              <a:ext cx="4323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组合 45"/>
          <p:cNvGrpSpPr/>
          <p:nvPr/>
        </p:nvGrpSpPr>
        <p:grpSpPr>
          <a:xfrm>
            <a:off x="3209400" y="3630600"/>
            <a:ext cx="1178280" cy="431640"/>
            <a:chOff x="3209400" y="3630600"/>
            <a:chExt cx="1178280" cy="431640"/>
          </a:xfrm>
        </p:grpSpPr>
        <p:cxnSp>
          <p:nvCxnSpPr>
            <p:cNvPr id="1017" name="直接箭头连接符 46"/>
            <p:cNvCxnSpPr/>
            <p:nvPr/>
          </p:nvCxnSpPr>
          <p:spPr>
            <a:xfrm>
              <a:off x="3209400" y="386604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8" name="矩形 47"/>
            <p:cNvSpPr/>
            <p:nvPr/>
          </p:nvSpPr>
          <p:spPr>
            <a:xfrm>
              <a:off x="3955320" y="3630600"/>
              <a:ext cx="4323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组合 65"/>
          <p:cNvGrpSpPr/>
          <p:nvPr/>
        </p:nvGrpSpPr>
        <p:grpSpPr>
          <a:xfrm>
            <a:off x="4502160" y="1743120"/>
            <a:ext cx="1176120" cy="431640"/>
            <a:chOff x="4502160" y="1743120"/>
            <a:chExt cx="1176120" cy="431640"/>
          </a:xfrm>
        </p:grpSpPr>
        <p:cxnSp>
          <p:nvCxnSpPr>
            <p:cNvPr id="1020" name="直接箭头连接符 66"/>
            <p:cNvCxnSpPr/>
            <p:nvPr/>
          </p:nvCxnSpPr>
          <p:spPr>
            <a:xfrm>
              <a:off x="4502160" y="197856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1" name="矩形 67"/>
            <p:cNvSpPr/>
            <p:nvPr/>
          </p:nvSpPr>
          <p:spPr>
            <a:xfrm>
              <a:off x="5246640" y="174312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68"/>
          <p:cNvGrpSpPr/>
          <p:nvPr/>
        </p:nvGrpSpPr>
        <p:grpSpPr>
          <a:xfrm>
            <a:off x="4502160" y="2719440"/>
            <a:ext cx="1176120" cy="431640"/>
            <a:chOff x="4502160" y="2719440"/>
            <a:chExt cx="1176120" cy="431640"/>
          </a:xfrm>
        </p:grpSpPr>
        <p:cxnSp>
          <p:nvCxnSpPr>
            <p:cNvPr id="1023" name="直接箭头连接符 69"/>
            <p:cNvCxnSpPr/>
            <p:nvPr/>
          </p:nvCxnSpPr>
          <p:spPr>
            <a:xfrm>
              <a:off x="4502160" y="295488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4" name="矩形 70"/>
            <p:cNvSpPr/>
            <p:nvPr/>
          </p:nvSpPr>
          <p:spPr>
            <a:xfrm>
              <a:off x="5246640" y="271944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71"/>
          <p:cNvGrpSpPr/>
          <p:nvPr/>
        </p:nvGrpSpPr>
        <p:grpSpPr>
          <a:xfrm>
            <a:off x="4502160" y="3622680"/>
            <a:ext cx="1176120" cy="431640"/>
            <a:chOff x="4502160" y="3622680"/>
            <a:chExt cx="1176120" cy="431640"/>
          </a:xfrm>
        </p:grpSpPr>
        <p:cxnSp>
          <p:nvCxnSpPr>
            <p:cNvPr id="1026" name="直接箭头连接符 72"/>
            <p:cNvCxnSpPr/>
            <p:nvPr/>
          </p:nvCxnSpPr>
          <p:spPr>
            <a:xfrm>
              <a:off x="4502160" y="385812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7" name="矩形 73"/>
            <p:cNvSpPr/>
            <p:nvPr/>
          </p:nvSpPr>
          <p:spPr>
            <a:xfrm>
              <a:off x="5246640" y="362268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组合 77"/>
          <p:cNvGrpSpPr/>
          <p:nvPr/>
        </p:nvGrpSpPr>
        <p:grpSpPr>
          <a:xfrm>
            <a:off x="5846760" y="1743120"/>
            <a:ext cx="1176120" cy="431640"/>
            <a:chOff x="5846760" y="1743120"/>
            <a:chExt cx="1176120" cy="431640"/>
          </a:xfrm>
        </p:grpSpPr>
        <p:cxnSp>
          <p:nvCxnSpPr>
            <p:cNvPr id="1029" name="直接箭头连接符 78"/>
            <p:cNvCxnSpPr/>
            <p:nvPr/>
          </p:nvCxnSpPr>
          <p:spPr>
            <a:xfrm>
              <a:off x="5846760" y="197856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30" name="矩形 79"/>
            <p:cNvSpPr/>
            <p:nvPr/>
          </p:nvSpPr>
          <p:spPr>
            <a:xfrm>
              <a:off x="6591240" y="174312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80"/>
          <p:cNvGrpSpPr/>
          <p:nvPr/>
        </p:nvGrpSpPr>
        <p:grpSpPr>
          <a:xfrm>
            <a:off x="5846760" y="2719440"/>
            <a:ext cx="1176120" cy="431640"/>
            <a:chOff x="5846760" y="2719440"/>
            <a:chExt cx="1176120" cy="431640"/>
          </a:xfrm>
        </p:grpSpPr>
        <p:cxnSp>
          <p:nvCxnSpPr>
            <p:cNvPr id="1032" name="直接箭头连接符 81"/>
            <p:cNvCxnSpPr/>
            <p:nvPr/>
          </p:nvCxnSpPr>
          <p:spPr>
            <a:xfrm>
              <a:off x="5846760" y="295488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33" name="矩形 82"/>
            <p:cNvSpPr/>
            <p:nvPr/>
          </p:nvSpPr>
          <p:spPr>
            <a:xfrm>
              <a:off x="6591240" y="271944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83"/>
          <p:cNvGrpSpPr/>
          <p:nvPr/>
        </p:nvGrpSpPr>
        <p:grpSpPr>
          <a:xfrm>
            <a:off x="5846760" y="3622680"/>
            <a:ext cx="1176120" cy="431640"/>
            <a:chOff x="5846760" y="3622680"/>
            <a:chExt cx="1176120" cy="431640"/>
          </a:xfrm>
        </p:grpSpPr>
        <p:cxnSp>
          <p:nvCxnSpPr>
            <p:cNvPr id="1035" name="直接箭头连接符 84"/>
            <p:cNvCxnSpPr/>
            <p:nvPr/>
          </p:nvCxnSpPr>
          <p:spPr>
            <a:xfrm>
              <a:off x="5846760" y="385812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36" name="矩形 85"/>
            <p:cNvSpPr/>
            <p:nvPr/>
          </p:nvSpPr>
          <p:spPr>
            <a:xfrm>
              <a:off x="6591240" y="362268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组合 103"/>
          <p:cNvGrpSpPr/>
          <p:nvPr/>
        </p:nvGrpSpPr>
        <p:grpSpPr>
          <a:xfrm>
            <a:off x="1504800" y="1530360"/>
            <a:ext cx="4993920" cy="743760"/>
            <a:chOff x="1504800" y="1530360"/>
            <a:chExt cx="4993920" cy="743760"/>
          </a:xfrm>
        </p:grpSpPr>
        <p:sp>
          <p:nvSpPr>
            <p:cNvPr id="1038" name="文本框 98"/>
            <p:cNvSpPr/>
            <p:nvPr/>
          </p:nvSpPr>
          <p:spPr>
            <a:xfrm>
              <a:off x="1504800" y="1692720"/>
              <a:ext cx="38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99"/>
            <p:cNvSpPr/>
            <p:nvPr/>
          </p:nvSpPr>
          <p:spPr>
            <a:xfrm>
              <a:off x="1976400" y="1530360"/>
              <a:ext cx="71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文本框 100"/>
            <p:cNvSpPr/>
            <p:nvPr/>
          </p:nvSpPr>
          <p:spPr>
            <a:xfrm>
              <a:off x="3221280" y="153036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101"/>
            <p:cNvSpPr/>
            <p:nvPr/>
          </p:nvSpPr>
          <p:spPr>
            <a:xfrm>
              <a:off x="4513320" y="1530360"/>
              <a:ext cx="6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102"/>
            <p:cNvSpPr/>
            <p:nvPr/>
          </p:nvSpPr>
          <p:spPr>
            <a:xfrm>
              <a:off x="5876640" y="1530360"/>
              <a:ext cx="6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104"/>
          <p:cNvGrpSpPr/>
          <p:nvPr/>
        </p:nvGrpSpPr>
        <p:grpSpPr>
          <a:xfrm>
            <a:off x="1504800" y="2521080"/>
            <a:ext cx="4993920" cy="744120"/>
            <a:chOff x="1504800" y="2521080"/>
            <a:chExt cx="4993920" cy="744120"/>
          </a:xfrm>
        </p:grpSpPr>
        <p:sp>
          <p:nvSpPr>
            <p:cNvPr id="1044" name="文本框 105"/>
            <p:cNvSpPr/>
            <p:nvPr/>
          </p:nvSpPr>
          <p:spPr>
            <a:xfrm>
              <a:off x="1504800" y="2683800"/>
              <a:ext cx="38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106"/>
            <p:cNvSpPr/>
            <p:nvPr/>
          </p:nvSpPr>
          <p:spPr>
            <a:xfrm>
              <a:off x="1976400" y="2521080"/>
              <a:ext cx="71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107"/>
            <p:cNvSpPr/>
            <p:nvPr/>
          </p:nvSpPr>
          <p:spPr>
            <a:xfrm>
              <a:off x="3221280" y="252108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108"/>
            <p:cNvSpPr/>
            <p:nvPr/>
          </p:nvSpPr>
          <p:spPr>
            <a:xfrm>
              <a:off x="4513320" y="2521080"/>
              <a:ext cx="6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文本框 109"/>
            <p:cNvSpPr/>
            <p:nvPr/>
          </p:nvSpPr>
          <p:spPr>
            <a:xfrm>
              <a:off x="5876640" y="2521080"/>
              <a:ext cx="6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组合 110"/>
          <p:cNvGrpSpPr/>
          <p:nvPr/>
        </p:nvGrpSpPr>
        <p:grpSpPr>
          <a:xfrm>
            <a:off x="1504800" y="3424320"/>
            <a:ext cx="4993920" cy="743760"/>
            <a:chOff x="1504800" y="3424320"/>
            <a:chExt cx="4993920" cy="743760"/>
          </a:xfrm>
        </p:grpSpPr>
        <p:sp>
          <p:nvSpPr>
            <p:cNvPr id="1050" name="文本框 111"/>
            <p:cNvSpPr/>
            <p:nvPr/>
          </p:nvSpPr>
          <p:spPr>
            <a:xfrm>
              <a:off x="1504800" y="3586680"/>
              <a:ext cx="38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文本框 112"/>
            <p:cNvSpPr/>
            <p:nvPr/>
          </p:nvSpPr>
          <p:spPr>
            <a:xfrm>
              <a:off x="1976400" y="3424320"/>
              <a:ext cx="71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文本框 113"/>
            <p:cNvSpPr/>
            <p:nvPr/>
          </p:nvSpPr>
          <p:spPr>
            <a:xfrm>
              <a:off x="3221280" y="342432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114"/>
            <p:cNvSpPr/>
            <p:nvPr/>
          </p:nvSpPr>
          <p:spPr>
            <a:xfrm>
              <a:off x="4513320" y="3424320"/>
              <a:ext cx="6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文本框 115"/>
            <p:cNvSpPr/>
            <p:nvPr/>
          </p:nvSpPr>
          <p:spPr>
            <a:xfrm>
              <a:off x="5876640" y="3424320"/>
              <a:ext cx="6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文本框 147"/>
          <p:cNvSpPr/>
          <p:nvPr/>
        </p:nvSpPr>
        <p:spPr>
          <a:xfrm>
            <a:off x="2556000" y="1685880"/>
            <a:ext cx="7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148"/>
          <p:cNvSpPr/>
          <p:nvPr/>
        </p:nvSpPr>
        <p:spPr>
          <a:xfrm>
            <a:off x="3841920" y="16858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49"/>
          <p:cNvSpPr/>
          <p:nvPr/>
        </p:nvSpPr>
        <p:spPr>
          <a:xfrm>
            <a:off x="5135400" y="168588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150"/>
          <p:cNvSpPr/>
          <p:nvPr/>
        </p:nvSpPr>
        <p:spPr>
          <a:xfrm>
            <a:off x="6483240" y="168588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51"/>
          <p:cNvSpPr/>
          <p:nvPr/>
        </p:nvSpPr>
        <p:spPr>
          <a:xfrm>
            <a:off x="2556000" y="265572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152"/>
          <p:cNvSpPr/>
          <p:nvPr/>
        </p:nvSpPr>
        <p:spPr>
          <a:xfrm>
            <a:off x="3841920" y="265572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153"/>
          <p:cNvSpPr/>
          <p:nvPr/>
        </p:nvSpPr>
        <p:spPr>
          <a:xfrm>
            <a:off x="5137200" y="265572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54"/>
          <p:cNvSpPr/>
          <p:nvPr/>
        </p:nvSpPr>
        <p:spPr>
          <a:xfrm>
            <a:off x="6477120" y="2655720"/>
            <a:ext cx="8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155"/>
          <p:cNvSpPr/>
          <p:nvPr/>
        </p:nvSpPr>
        <p:spPr>
          <a:xfrm>
            <a:off x="2556000" y="356076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56"/>
          <p:cNvSpPr/>
          <p:nvPr/>
        </p:nvSpPr>
        <p:spPr>
          <a:xfrm>
            <a:off x="3840120" y="358776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57"/>
          <p:cNvSpPr/>
          <p:nvPr/>
        </p:nvSpPr>
        <p:spPr>
          <a:xfrm>
            <a:off x="5137200" y="35607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58"/>
          <p:cNvSpPr/>
          <p:nvPr/>
        </p:nvSpPr>
        <p:spPr>
          <a:xfrm>
            <a:off x="6529320" y="3560760"/>
            <a:ext cx="6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56"/>
          <p:cNvGrpSpPr/>
          <p:nvPr/>
        </p:nvGrpSpPr>
        <p:grpSpPr>
          <a:xfrm>
            <a:off x="446040" y="1509840"/>
            <a:ext cx="8005320" cy="1020600"/>
            <a:chOff x="446040" y="1509840"/>
            <a:chExt cx="8005320" cy="1020600"/>
          </a:xfrm>
        </p:grpSpPr>
        <p:sp>
          <p:nvSpPr>
            <p:cNvPr id="1068" name="矩形 42"/>
            <p:cNvSpPr/>
            <p:nvPr/>
          </p:nvSpPr>
          <p:spPr>
            <a:xfrm>
              <a:off x="446040" y="150984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+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矩形 45"/>
            <p:cNvSpPr/>
            <p:nvPr/>
          </p:nvSpPr>
          <p:spPr>
            <a:xfrm>
              <a:off x="2254680" y="150984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+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矩形 48"/>
            <p:cNvSpPr/>
            <p:nvPr/>
          </p:nvSpPr>
          <p:spPr>
            <a:xfrm>
              <a:off x="4063320" y="150984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+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矩形 49"/>
            <p:cNvSpPr/>
            <p:nvPr/>
          </p:nvSpPr>
          <p:spPr>
            <a:xfrm>
              <a:off x="5880960" y="1509840"/>
              <a:ext cx="76176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+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50"/>
            <p:cNvSpPr/>
            <p:nvPr/>
          </p:nvSpPr>
          <p:spPr>
            <a:xfrm>
              <a:off x="7689600" y="1509840"/>
              <a:ext cx="76176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+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51"/>
            <p:cNvSpPr/>
            <p:nvPr/>
          </p:nvSpPr>
          <p:spPr>
            <a:xfrm>
              <a:off x="446040" y="215028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52"/>
            <p:cNvSpPr/>
            <p:nvPr/>
          </p:nvSpPr>
          <p:spPr>
            <a:xfrm>
              <a:off x="2254680" y="215028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53"/>
            <p:cNvSpPr/>
            <p:nvPr/>
          </p:nvSpPr>
          <p:spPr>
            <a:xfrm>
              <a:off x="4063320" y="215028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+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矩形 54"/>
            <p:cNvSpPr/>
            <p:nvPr/>
          </p:nvSpPr>
          <p:spPr>
            <a:xfrm>
              <a:off x="5871960" y="2150280"/>
              <a:ext cx="76212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+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矩形 55"/>
            <p:cNvSpPr/>
            <p:nvPr/>
          </p:nvSpPr>
          <p:spPr>
            <a:xfrm>
              <a:off x="7680960" y="2150280"/>
              <a:ext cx="761760" cy="3801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+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文本框 99"/>
          <p:cNvSpPr/>
          <p:nvPr/>
        </p:nvSpPr>
        <p:spPr>
          <a:xfrm>
            <a:off x="297000" y="851040"/>
            <a:ext cx="27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从小到大排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2"/>
          <p:cNvSpPr/>
          <p:nvPr/>
        </p:nvSpPr>
        <p:spPr>
          <a:xfrm>
            <a:off x="447840" y="1503360"/>
            <a:ext cx="7617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3"/>
          <p:cNvSpPr/>
          <p:nvPr/>
        </p:nvSpPr>
        <p:spPr>
          <a:xfrm>
            <a:off x="2257560" y="1503360"/>
            <a:ext cx="7617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4"/>
          <p:cNvSpPr/>
          <p:nvPr/>
        </p:nvSpPr>
        <p:spPr>
          <a:xfrm>
            <a:off x="4065480" y="1503360"/>
            <a:ext cx="76212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6"/>
          <p:cNvSpPr/>
          <p:nvPr/>
        </p:nvSpPr>
        <p:spPr>
          <a:xfrm>
            <a:off x="5883120" y="1503360"/>
            <a:ext cx="76212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9"/>
          <p:cNvSpPr/>
          <p:nvPr/>
        </p:nvSpPr>
        <p:spPr>
          <a:xfrm>
            <a:off x="7691400" y="1503360"/>
            <a:ext cx="76212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10"/>
          <p:cNvSpPr/>
          <p:nvPr/>
        </p:nvSpPr>
        <p:spPr>
          <a:xfrm>
            <a:off x="447840" y="2144880"/>
            <a:ext cx="761760" cy="379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15"/>
          <p:cNvSpPr/>
          <p:nvPr/>
        </p:nvSpPr>
        <p:spPr>
          <a:xfrm>
            <a:off x="2257560" y="2144880"/>
            <a:ext cx="761760" cy="379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16"/>
          <p:cNvSpPr/>
          <p:nvPr/>
        </p:nvSpPr>
        <p:spPr>
          <a:xfrm>
            <a:off x="4065480" y="2144880"/>
            <a:ext cx="762120" cy="379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+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17"/>
          <p:cNvSpPr/>
          <p:nvPr/>
        </p:nvSpPr>
        <p:spPr>
          <a:xfrm>
            <a:off x="5873760" y="2144880"/>
            <a:ext cx="762120" cy="379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18"/>
          <p:cNvSpPr/>
          <p:nvPr/>
        </p:nvSpPr>
        <p:spPr>
          <a:xfrm>
            <a:off x="7682040" y="2144880"/>
            <a:ext cx="761760" cy="379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41667 0.277778 E">
                                      <p:cBhvr>
                                        <p:cTn id="69" dur="2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133333 0.277871 E">
                                      <p:cBhvr>
                                        <p:cTn id="73" dur="2000" fill="hold"/>
                                        <p:tgtEl>
                                          <p:spTgt spid="10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8472 0.375278 E">
                                      <p:cBhvr>
                                        <p:cTn id="77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625 0.375278 E">
                                      <p:cBhvr>
                                        <p:cTn id="81" dur="2000" fill="hold"/>
                                        <p:tgtEl>
                                          <p:spTgt spid="1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58333 0.277778 E">
                                      <p:cBhvr>
                                        <p:cTn id="85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333 0.377778 E">
                                      <p:cBhvr>
                                        <p:cTn id="89" dur="2000" fill="hold"/>
                                        <p:tgtEl>
                                          <p:spTgt spid="10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5417 0.281852 E">
                                      <p:cBhvr>
                                        <p:cTn id="9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333 0.377778 E">
                                      <p:cBhvr>
                                        <p:cTn id="97" dur="2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50972 0.375278 E">
                                      <p:cBhvr>
                                        <p:cTn id="101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9306 0.281852 E">
                                      <p:cBhvr>
                                        <p:cTn id="105" dur="2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文本框 99"/>
          <p:cNvSpPr/>
          <p:nvPr/>
        </p:nvSpPr>
        <p:spPr>
          <a:xfrm>
            <a:off x="349200" y="765000"/>
            <a:ext cx="81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选出合适的数填入圆圈里，使一个大圆上四个小圆中的数的和分别等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14"/>
          <p:cNvGrpSpPr/>
          <p:nvPr/>
        </p:nvGrpSpPr>
        <p:grpSpPr>
          <a:xfrm>
            <a:off x="2563920" y="2300400"/>
            <a:ext cx="2998800" cy="1328760"/>
            <a:chOff x="2563920" y="2300400"/>
            <a:chExt cx="2998800" cy="1328760"/>
          </a:xfrm>
        </p:grpSpPr>
        <p:grpSp>
          <p:nvGrpSpPr>
            <p:cNvPr id="1091" name="组合 4"/>
            <p:cNvGrpSpPr/>
            <p:nvPr/>
          </p:nvGrpSpPr>
          <p:grpSpPr>
            <a:xfrm>
              <a:off x="2563920" y="2300760"/>
              <a:ext cx="2998800" cy="1296360"/>
              <a:chOff x="2563920" y="2300760"/>
              <a:chExt cx="2998800" cy="1296360"/>
            </a:xfrm>
          </p:grpSpPr>
          <p:sp>
            <p:nvSpPr>
              <p:cNvPr id="1092" name="椭圆 2"/>
              <p:cNvSpPr/>
              <p:nvPr/>
            </p:nvSpPr>
            <p:spPr>
              <a:xfrm>
                <a:off x="2563920" y="2301840"/>
                <a:ext cx="1775880" cy="1295280"/>
              </a:xfrm>
              <a:prstGeom prst="ellipse">
                <a:avLst/>
              </a:prstGeom>
              <a:noFill/>
              <a:ln w="1908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椭圆 3"/>
              <p:cNvSpPr/>
              <p:nvPr/>
            </p:nvSpPr>
            <p:spPr>
              <a:xfrm>
                <a:off x="3786480" y="2300760"/>
                <a:ext cx="1776240" cy="1295280"/>
              </a:xfrm>
              <a:prstGeom prst="ellipse">
                <a:avLst/>
              </a:prstGeom>
              <a:noFill/>
              <a:ln w="1908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椭圆 6"/>
            <p:cNvSpPr/>
            <p:nvPr/>
          </p:nvSpPr>
          <p:spPr>
            <a:xfrm>
              <a:off x="3835440" y="2300400"/>
              <a:ext cx="464400" cy="453960"/>
            </a:xfrm>
            <a:prstGeom prst="ellipse">
              <a:avLst/>
            </a:prstGeom>
            <a:solidFill>
              <a:srgbClr val="e7e6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椭圆 7"/>
            <p:cNvSpPr/>
            <p:nvPr/>
          </p:nvSpPr>
          <p:spPr>
            <a:xfrm>
              <a:off x="3835440" y="3175200"/>
              <a:ext cx="464400" cy="453960"/>
            </a:xfrm>
            <a:prstGeom prst="ellipse">
              <a:avLst/>
            </a:prstGeom>
            <a:solidFill>
              <a:srgbClr val="e7e6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椭圆 8"/>
            <p:cNvSpPr/>
            <p:nvPr/>
          </p:nvSpPr>
          <p:spPr>
            <a:xfrm>
              <a:off x="2707920" y="2300400"/>
              <a:ext cx="464400" cy="453960"/>
            </a:xfrm>
            <a:prstGeom prst="ellipse">
              <a:avLst/>
            </a:prstGeom>
            <a:solidFill>
              <a:srgbClr val="e7e6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椭圆 9"/>
            <p:cNvSpPr/>
            <p:nvPr/>
          </p:nvSpPr>
          <p:spPr>
            <a:xfrm>
              <a:off x="2707920" y="3175200"/>
              <a:ext cx="464400" cy="453960"/>
            </a:xfrm>
            <a:prstGeom prst="ellipse">
              <a:avLst/>
            </a:prstGeom>
            <a:solidFill>
              <a:srgbClr val="e7e6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椭圆 10"/>
            <p:cNvSpPr/>
            <p:nvPr/>
          </p:nvSpPr>
          <p:spPr>
            <a:xfrm>
              <a:off x="4964040" y="2300400"/>
              <a:ext cx="464400" cy="453960"/>
            </a:xfrm>
            <a:prstGeom prst="ellipse">
              <a:avLst/>
            </a:prstGeom>
            <a:solidFill>
              <a:srgbClr val="e7e6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椭圆 12"/>
            <p:cNvSpPr/>
            <p:nvPr/>
          </p:nvSpPr>
          <p:spPr>
            <a:xfrm>
              <a:off x="4964040" y="3175200"/>
              <a:ext cx="464400" cy="453960"/>
            </a:xfrm>
            <a:prstGeom prst="ellipse">
              <a:avLst/>
            </a:prstGeom>
            <a:solidFill>
              <a:srgbClr val="e7e6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文本框 15"/>
          <p:cNvSpPr/>
          <p:nvPr/>
        </p:nvSpPr>
        <p:spPr>
          <a:xfrm>
            <a:off x="3873600" y="225108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16"/>
          <p:cNvSpPr/>
          <p:nvPr/>
        </p:nvSpPr>
        <p:spPr>
          <a:xfrm>
            <a:off x="3863880" y="314964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17"/>
          <p:cNvSpPr/>
          <p:nvPr/>
        </p:nvSpPr>
        <p:spPr>
          <a:xfrm>
            <a:off x="2752560" y="227016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18"/>
          <p:cNvSpPr/>
          <p:nvPr/>
        </p:nvSpPr>
        <p:spPr>
          <a:xfrm>
            <a:off x="2752560" y="314496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19"/>
          <p:cNvSpPr/>
          <p:nvPr/>
        </p:nvSpPr>
        <p:spPr>
          <a:xfrm>
            <a:off x="5003640" y="227484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20"/>
          <p:cNvSpPr/>
          <p:nvPr/>
        </p:nvSpPr>
        <p:spPr>
          <a:xfrm>
            <a:off x="5002200" y="314964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07:33:59Z</dcterms:created>
  <dc:creator/>
  <dc:description/>
  <dc:language>en-US</dc:language>
  <cp:lastModifiedBy>万润仪器贸易公司</cp:lastModifiedBy>
  <dcterms:modified xsi:type="dcterms:W3CDTF">2020-08-18T09:52:44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